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572-11E9-405E-A1BC-039FB3AD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hydrogen ion is actually trans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red proton binds to an unshared orbital of the second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molecule that loses th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only 1 molecule out of 554,000,000 water molecules that is dissoc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orners are orbitals with unshared electrons and a weak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re occupied by hydrogen atoms that hav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CBE-052F-4161-B32E-18AEB913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4A9-ED65-4782-B436-CE06F1D1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5B3-E08C-4F66-8F87-17716B5E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CE2-ECBC-4567-A314-74D23AB3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D99-057C-4E2C-AE32-1F52A6D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C0E-5EA8-4B8F-9144-0465D5E9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04D-82B1-404C-B629-7319428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481-A357-4E64-920E-A059C64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764-D255-45C1-AB66-8E468950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7E8-3B6D-4FDB-92BC-89F7ABF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399-866A-42BB-AFA8-65A61B3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535-E4BE-41B0-BD28-58DF7B0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0CFB-F748-4485-B4C1-94BCA9624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Water – </a:t>
            </a:r>
            <a:r>
              <a:rPr b="1" lang="en-US" sz="5400" spc="-1" strike="noStrike">
                <a:solidFill>
                  <a:srgbClr val="000000"/>
                </a:solidFill>
                <a:latin typeface="Tabitha"/>
              </a:rPr>
              <a:t>Chapter</a:t>
            </a: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ing of a surface occurs when the liquid evap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ing earth’s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zes  temperature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organisms from over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4721400"/>
            <a:ext cx="1760400" cy="213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1904760" cy="167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792440"/>
            <a:ext cx="2438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ens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dense at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s until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ands from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o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576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5840" y="3429000"/>
            <a:ext cx="85723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nsity of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s water from freezing from the 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 forms on the surface first—the freezing of the water releases heat to the water below creating in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s transition between season less abru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ter reaches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ater becomes locked into a crystalline lattice with each molecule bonded to to the maximum of fou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starts to melt, some of the hydrogen bonds break and some water molecules can slip closer together than they can while in the ic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 is about 10% less dense than water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878"/>
          <a:stretch/>
        </p:blipFill>
        <p:spPr>
          <a:xfrm>
            <a:off x="1600200" y="360216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648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olvent f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solv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molecules (generally) are water sol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o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st biochemical reactions involve solutes dissolved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two important quantitative proprieties of aqueous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centration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ar weight – sum of the weights of all atoms in a molecule (dal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 – amount of a substance that has a mass in grams numerically equivalent to its molecular weight in dal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gadro’s number – 6.0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le of one substance has the same number of molecules as a mole of any other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15000" y="4422600"/>
            <a:ext cx="3429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la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076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centration of a material in solution is called its m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one molar solution has one mole of a substance dissolved in one liter of solvent, typically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89548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a one molar solution of  sucrose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2916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12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1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= 16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61476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x12 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x 22 =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x 1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960" y="5257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2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05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2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, a hydrogen atom shared by two water molecules shifts from one molecul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drogen atom leaves its electron behind and is transferred as a single proton -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molecule that lost a proton is now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 prot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droni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ssociation of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7375"/>
          <a:stretch/>
        </p:blipFill>
        <p:spPr>
          <a:xfrm>
            <a:off x="3962520" y="4267080"/>
            <a:ext cx="48067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9520" y="6019920"/>
            <a:ext cx="200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numbered Fig. 3.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r way to view this process is that a water molecule dissociates into a hydrogen ion and a hydroxide 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&lt;=&gt;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 the concentration of water molecules greatly exceeds that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ure water only one water molecule in every 554 million is dissoc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, the concentration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(25°C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bases reduc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and bases complete dissociate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and bases dissociate only partially and reversi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322960" y="838080"/>
            <a:ext cx="3821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roperties of 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olar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hesion and ad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igh specific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nsity – greatest at 4</a:t>
            </a:r>
            <a:r>
              <a:rPr b="1" lang="en-US" sz="3600" spc="-1" strike="noStrike" baseline="30000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versal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814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H Sc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in any aqueous 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degree of acidity (0 –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ologic fluids are in the pH range from 6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H unit represents a tenfold difference (scale is logarith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change in pH actually indicates a substantial change in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Probl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much greater is the [ H</a:t>
            </a:r>
            <a:r>
              <a:rPr b="1" lang="en-US" sz="3200" spc="-1" strike="noStrike" baseline="30000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] in a solution with pH 2 than in a solution with pH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73392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2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6 = 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,000,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,000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Buff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868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 that eliminates large sudden changes in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 help organisms maintain the pH of body fluids within the narrow range necessary for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binations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eptors and donors forms in a solution of weak acids or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by accep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from solutions when they are in excess and by dona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hen they have been de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Acid Precipi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, snow or fog with more strongly acidic than pH of 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Virginia has recorded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t Tennessee reported 4.2 in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sulfur oxides and nitrogen oxides react with water in the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s pH of soil which affects mineral solubility – decline of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pH of lakes and ponds – In the Western Adirondack Mountains, there are lakes with a pH &lt;5 that have no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16496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14400" cy="1112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181480"/>
            <a:ext cx="116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olar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ater molecule two hydrogen atoms form single polar covalent bonds with an oxygen atom. Gives water more structure than other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xygen is more electronegative, the region around oxygen has a partial nega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ion near the two hydrogen atoms has a partial posi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is a polar molecule with opposite ends of the molecule with opposit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19920" y="4267080"/>
          <a:ext cx="281304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8130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47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has a variety of unusual properties because of attractions between these 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ghtly negative regions of one molecule are attracted to the slightly positive regions of nearby molecules, forming a hydrogen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ater molec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hydrog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with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3468600"/>
            <a:ext cx="4038480" cy="30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3920" y="6248520"/>
            <a:ext cx="99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 water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water molecule can form a maximum of 4 hydroge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ogen bonds joining water molecules are weak, about 1/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strong as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form, break, and reform with grea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ordinary Properties that are a result of hydrogen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hes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ists changes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ds when it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atile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33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Organisms Depend on Cohe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is responsible for the transport of the water column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among water molecules plays a key role in the transport of water against gravity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sion, cling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substance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, contribu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, as water adhe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wall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914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rogen bonds hold the substance together, a phenomenon called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 tens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the force necessary to stretch or break the surface of a liquid, is related to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has a greater surface tension than most other liquids because hydrogen bonds among surface water molecules resist stretching or breaking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ehaves 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by an invi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nimals can stan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, or run on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break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000" t="0" r="10001" b="0"/>
          <a:stretch/>
        </p:blipFill>
        <p:spPr>
          <a:xfrm>
            <a:off x="5410080" y="3429000"/>
            <a:ext cx="30481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772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rates Temperatures o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kinetic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or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cal and 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specific 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2660760"/>
            <a:ext cx="4038480" cy="4120920"/>
            <a:chOff x="304920" y="2660760"/>
            <a:chExt cx="4038480" cy="4120920"/>
          </a:xfrm>
        </p:grpSpPr>
        <p:grpSp>
          <p:nvGrpSpPr>
            <p:cNvPr id="82" name=""/>
            <p:cNvGrpSpPr/>
            <p:nvPr/>
          </p:nvGrpSpPr>
          <p:grpSpPr>
            <a:xfrm>
              <a:off x="308520" y="2665440"/>
              <a:ext cx="4030560" cy="4111560"/>
              <a:chOff x="308520" y="2665440"/>
              <a:chExt cx="4030560" cy="411156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8520" y="2665440"/>
                <a:ext cx="4030560" cy="822240"/>
                <a:chOff x="308520" y="2665440"/>
                <a:chExt cx="4030560" cy="822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4320" y="2665440"/>
                  <a:ext cx="3918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lsius Scale at Sea Lev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8520" y="2665440"/>
                  <a:ext cx="403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08520" y="3487680"/>
                <a:ext cx="1171440" cy="822240"/>
                <a:chOff x="308520" y="3487680"/>
                <a:chExt cx="1171440" cy="82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4320" y="348768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8520" y="348768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79960" y="3487680"/>
                <a:ext cx="2858760" cy="822240"/>
                <a:chOff x="1479960" y="3487680"/>
                <a:chExt cx="2858760" cy="822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535400" y="348768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boi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479960" y="348768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08520" y="4309920"/>
                <a:ext cx="1171440" cy="822600"/>
                <a:chOff x="308520" y="4309920"/>
                <a:chExt cx="1171440" cy="822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4320" y="4309920"/>
                  <a:ext cx="1059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8520" y="4309920"/>
                  <a:ext cx="11714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479960" y="4309920"/>
                <a:ext cx="2858760" cy="822600"/>
                <a:chOff x="1479960" y="4309920"/>
                <a:chExt cx="2858760" cy="822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535400" y="4309920"/>
                  <a:ext cx="2746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man body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479960" y="4309920"/>
                  <a:ext cx="28587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08520" y="5132520"/>
                <a:ext cx="1171440" cy="822240"/>
                <a:chOff x="308520" y="5132520"/>
                <a:chExt cx="1171440" cy="822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4320" y="513252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8520" y="513252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479960" y="5132520"/>
                <a:ext cx="2858760" cy="822240"/>
                <a:chOff x="1479960" y="5132520"/>
                <a:chExt cx="2858760" cy="822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535400" y="513252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om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479960" y="513252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08520" y="5954760"/>
                <a:ext cx="1171440" cy="822240"/>
                <a:chOff x="308520" y="5954760"/>
                <a:chExt cx="1171440" cy="822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4320" y="595476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8520" y="595476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479960" y="5954760"/>
                <a:ext cx="2858760" cy="822240"/>
                <a:chOff x="1479960" y="5954760"/>
                <a:chExt cx="2858760" cy="822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35400" y="595476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freez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479960" y="595476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04920" y="2660760"/>
              <a:ext cx="4038480" cy="412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518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781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stabilizes air temperatures by absorbing heat from warmer air and releasing heat to cooler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relatively large amounts of heat with only a slight change in its own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828800"/>
            <a:ext cx="5791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fourths of the earth is covered by water.  The water serves as a large heat sink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on of temperature fluctuations that are outside the range suitable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reas having a mil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ble marin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Specific Heat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is the amount of heat that must be absorbed or lost for  one gram of a substance to change its temperature by 1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9240" y="2666880"/>
            <a:ext cx="3725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2:42:44Z</dcterms:created>
  <dc:creator>Pre-Installed-User</dc:creator>
  <dc:description/>
  <dc:language>en-US</dc:language>
  <cp:lastModifiedBy>User</cp:lastModifiedBy>
  <dcterms:modified xsi:type="dcterms:W3CDTF">2012-01-27T01:47:58Z</dcterms:modified>
  <cp:revision>7</cp:revision>
  <dc:subject/>
  <dc:title>Properties of Water</dc:title>
</cp:coreProperties>
</file>